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D899-228E-41AA-A8CE-6EEDA555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15D6-8225-4BA7-9300-1866D798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51E5-0360-41D6-99F8-2DE65774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AEF9-9D76-4759-A4FA-8E9F3C9A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F676-0CA1-47BA-BCAA-D0E7AB90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5E33-6922-4EE4-A284-E29CE117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11D5-A195-4B81-A5AF-29C731CF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EFC0-CAC3-486E-BBB8-929FD213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2DF4-7321-4E3D-9453-96C0D598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3EBE-5FC7-4DB3-AC7B-6FF74DED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A47C-B601-49A2-A01D-217FE394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1F69-85DC-4424-97FE-56741CEF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C9CB8-AFF1-419E-9611-4825F4455D22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Beneficios del Pensamiento Sistémic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Influencia en la Vida Di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Observar patrones detras de los ev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ás control sobre su sal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ás control sobre su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ás control sobre sus 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ejor capcidad Predi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 3: Comunic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3280" y="1768320"/>
            <a:ext cx="9069480" cy="49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 4:  El Inodor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36720" y="2340000"/>
            <a:ext cx="828036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Observacion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l concepto de retroalimentación es simple y ubicu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Casi siempre no los percibi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FeedBack en Máquinas (no hay control human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Máquina de vap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Termost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Circuitos Electrón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Tipos de FeedBac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FeedBack de Refuerzo  (Posi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Puede ser bueno o ma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Lleva a crecimiento o de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(depende de cómo arranq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3000"/>
              </a:lnSpc>
              <a:spcAft>
                <a:spcPts val="1137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Bola de Nie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Al rodar recoge ni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Al recoger nieve se hace más gr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Al aumentar de tamaño recoge más nieve, 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AVALANC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3000"/>
              </a:lnSpc>
              <a:spcAft>
                <a:spcPts val="1137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 1 : Bola de Niev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Arial"/>
              </a:rPr>
              <a:t>Al rodar recoge nie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Arial"/>
              </a:rPr>
              <a:t>Al recoger nieve se hace más gr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Arial"/>
              </a:rPr>
              <a:t>Al aumentar de tamaño recoge más nieve, etc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Arial"/>
              </a:rPr>
              <a:t>AVALANCH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 2: Cuenta Bancari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Deposito Inicial : $1000   (Interés 1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Gana Interés por el Deposito ($1,1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Siguiente mes  ( $1,100 +  $110 = $ 1210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n siete años </a:t>
            </a:r>
            <a:r>
              <a:rPr b="0" lang="es-CO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 $2,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Se dobla cada siete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Si dobla una hoja  a la mitad , tendrá el doble de grosor. Si se realice esta operación de manera repetida 40 veces, ¿Qué grosor tendrá el pedazo de Pap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Historia del Ajedr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Casilla 2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Un millón de gr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Casilla 64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761080" y="2050920"/>
            <a:ext cx="36194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Un Círculo Vicios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92000" y="1763640"/>
            <a:ext cx="856944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s Adicional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Moral de U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Pá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Amplificación de Son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Crecimiento de Cél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Crecimiento de pob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Rum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Beneficios del Pensamiento Sistémic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anejo de problem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aneras efectivas de resolver probl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Nuevas maneras de pensar los probl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Diferentes Perspec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Feedback Estabilizado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Nada crece para siemp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ventualmente se limita el cre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Se opone al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Los cambios en el resto del sistema se oponen  o restringen el cambio ini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Se llama también feedback neg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No es ni bueno ni m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Solo se resiste al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s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Inodoro (Los vimos a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Otr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Temperatura del cuer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Termos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Inventario de un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Oferta-De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Predador-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Enferm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Observacion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Si se quiere cambiar un sist complej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Feedback es resistencia a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Si quiere mantener un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FeedBack es est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FeedBack siempre tiene un objetivo (así sea el permanecer es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Siempre reduce la difeencia entre lo que es y lo que debe 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Más cerca el sistema al objetivo, menor la dif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Más Ejempl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Aire Acondicio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Nivel e azu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Su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scri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Manejar un car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FeedForward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Anticipar el fut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vento que no ha pasado (efecto) dispara una causa en el pres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Rumores que una acción va a baj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Rumores que un banco se quebr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Escasez de Gasol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Pensamiento estructural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El problema se encuentra casi siempre  en la Estructura del sis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Ir más lejos que encontrar culpables (lo exter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yuda al trabajo de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eestructuración de Proce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Retroaliment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ensamiento Sistém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ensamiento en Bucles (Círcul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odas las partes de un sistema están conectadas ( de manera directa o indirect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Un cambio se transmite a todo el sis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Bucle de retroaliment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3280" y="1768320"/>
            <a:ext cx="9069480" cy="49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Propiedad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s Bidireccio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Línea telefó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La experiencia está llena de Bucles de Retroalimen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A veces no percibimos los bu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l efecto siempre influye en la ca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Un Ejempl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La 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Al tomar la sed disminuye, toma me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Cuando hay satisfacción se deja de tom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La sed influye en la cantidad que se t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La cantidad que se toma influye en la 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PARECE UNA SOLA ACCIÓN PERO ES UN BUCL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Bucle Se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079640" y="1908000"/>
            <a:ext cx="856908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</a:t>
            </a: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Dedo Sobre Un punto en un tex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Ojos abie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Ojos cer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Ojos alimentan al dedo de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Posición del dedo alimenta al o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Ajustes continuos en fracciones de seg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Ojos miden constantemente la difer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5:53:01Z</dcterms:created>
  <dc:creator>alf </dc:creator>
  <dc:description/>
  <dc:language>en-US</dc:language>
  <cp:lastModifiedBy>WinuE</cp:lastModifiedBy>
  <dcterms:modified xsi:type="dcterms:W3CDTF">2012-02-27T21:26:53Z</dcterms:modified>
  <cp:revision>21</cp:revision>
  <dc:subject/>
  <dc:title>Beneficios del Pensamiento Sistémico</dc:title>
</cp:coreProperties>
</file>